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4.jpeg" ContentType="image/jpeg"/>
  <Override PartName="/ppt/media/image2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9.wmf" ContentType="image/x-wmf"/>
  <Override PartName="/ppt/media/image1.jpeg" ContentType="image/jpeg"/>
  <Override PartName="/ppt/media/image15.wmf" ContentType="image/x-wmf"/>
  <Override PartName="/ppt/media/image5.jpeg" ContentType="image/jpeg"/>
  <Override PartName="/ppt/media/image20.wmf" ContentType="image/x-wmf"/>
  <Override PartName="/ppt/media/image1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2963525" cy="8640763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DEB5-EF13-4226-B8AD-ABA1A27B6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1166976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46200" y="4993920"/>
            <a:ext cx="1166976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6A4B-4D3A-4525-B473-CCFFD7E84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46200" y="499392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625800" y="499392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49C7-697A-48DB-8577-36CE7157A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91800" y="201600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537400" y="201600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46200" y="499392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591800" y="499392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537400" y="499392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8651-73A9-4260-8FFC-EA31C7262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46200" y="2016000"/>
            <a:ext cx="11669760" cy="57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13B1-7A02-4DD5-81EB-C5B63B61E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1166976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E563-AF4D-4149-BCBD-0E785BD1E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1B00-5507-40B3-B058-CABE7993A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A294-5067-4727-9C8B-129C51D73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46200" y="347400"/>
            <a:ext cx="11669760" cy="66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CA5E-5496-4BE4-BB34-2CF8E2300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46200" y="499392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41ED-ACD9-4F00-9F2E-C2D3E799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25800" y="499392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969B-CDFD-4EA8-8E95-D8C44A51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46200" y="4993920"/>
            <a:ext cx="1166976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17A3-740B-4684-8DF1-62110E87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6200" y="2016000"/>
            <a:ext cx="1166976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marL="461880" indent="-46188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1" marL="1003320" indent="-385920">
              <a:spcBef>
                <a:spcPts val="1074"/>
              </a:spcBef>
              <a:buClr>
                <a:srgbClr val="000000"/>
              </a:buClr>
              <a:buFont typeface="Arial"/>
              <a:buChar char="–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2" marL="1542960" indent="-30636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3" marL="2160720" indent="-309600">
              <a:spcBef>
                <a:spcPts val="1074"/>
              </a:spcBef>
              <a:buClr>
                <a:srgbClr val="000000"/>
              </a:buClr>
              <a:buFont typeface="Arial"/>
              <a:buChar char="–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4" marL="2778120" indent="-30960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5" marL="2778120" indent="-30960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6" marL="2778120" indent="-30960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5840" y="7870320"/>
            <a:ext cx="3025800" cy="5986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Autofit/>
          </a:bodyPr>
          <a:lstStyle>
            <a:lvl1pPr indent="0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  <a:defRPr b="0" lang="cs-CZ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27640" y="0"/>
            <a:ext cx="4106880" cy="59832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  <a:defRPr b="1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289800" y="7870320"/>
            <a:ext cx="3025800" cy="5986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Autofit/>
          </a:bodyPr>
          <a:lstStyle>
            <a:lvl1pPr indent="0" algn="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  <a:defRPr b="0" lang="cs-CZ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fld id="{495480F7-692B-4B33-8A43-1461175869A4}" type="slidenum">
              <a:rPr b="0" lang="cs-CZ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304920" y="152280"/>
            <a:ext cx="1079280" cy="107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e2e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19320" y="838080"/>
            <a:ext cx="11034720" cy="2438640"/>
          </a:xfrm>
          <a:prstGeom prst="rect">
            <a:avLst/>
          </a:prstGeom>
          <a:solidFill>
            <a:srgbClr val="6d1543"/>
          </a:solidFill>
          <a:ln w="9360">
            <a:solidFill>
              <a:srgbClr val="ffffff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7200" spc="-1" strike="noStrike">
                <a:solidFill>
                  <a:srgbClr val="fbfadd"/>
                </a:solidFill>
                <a:latin typeface="Arial"/>
              </a:rPr>
              <a:t>Kulturní zájmy a potřeby</a:t>
            </a:r>
            <a:br>
              <a:rPr sz="7200"/>
            </a:br>
            <a:r>
              <a:rPr b="1" lang="en-US" sz="4000" spc="-1" strike="noStrike">
                <a:solidFill>
                  <a:srgbClr val="fbfadd"/>
                </a:solidFill>
                <a:latin typeface="Arial"/>
              </a:rPr>
              <a:t>obyvatel hlavního města Prah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99840" y="7162560"/>
            <a:ext cx="9753480" cy="10666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Autofit/>
          </a:bodyPr>
          <a:p>
            <a:pPr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3501"/>
              </a:spcAft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Prezentace pro setkání představitelů pražské kulturní obce dne 14. 1.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STEM" descr=""/>
          <p:cNvPicPr/>
          <p:nvPr/>
        </p:nvPicPr>
        <p:blipFill>
          <a:blip r:embed="rId1"/>
          <a:stretch/>
        </p:blipFill>
        <p:spPr>
          <a:xfrm>
            <a:off x="4800600" y="3657600"/>
            <a:ext cx="3124080" cy="328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7319-5051-4FDF-A3E0-05AB90DF9B2A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111492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Reference od známých jsou základ.</a:t>
            </a: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Internetu patří nejenom budoucnost, ale i současn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03320" y="17622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84640" y="2381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371600" y="1600200"/>
            <a:ext cx="112014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Řekněte mi, odkud čerpáte informace o možnostech kulturního vyžití v Praze?“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65440" y="2328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285920" y="2016000"/>
          <a:ext cx="9937800" cy="642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85920" y="2016000"/>
                    <a:ext cx="9937800" cy="642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2458-A841-492F-A84A-13B149880CEC}" type="slidenum">
              <a:t>10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112014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Některé z pražských kulturních projektů </a:t>
            </a:r>
            <a:br>
              <a:rPr sz="3600"/>
            </a:b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se staly pojmy, které zná většin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1600200"/>
            <a:ext cx="118872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yní Vám budu postupně číst různé konkrétní akce či zaříze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y mi prosím řekněte, zda je znáte?“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603600" y="2295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22120" y="2797200"/>
          <a:ext cx="6407280" cy="5616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2120" y="2797200"/>
                    <a:ext cx="6407280" cy="56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3603600" y="2295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518160" y="2684520"/>
          <a:ext cx="6283440" cy="5452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518160" y="2684520"/>
                    <a:ext cx="6283440" cy="54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CB76-241A-4677-A719-DCC34B9BBEEC}" type="slidenum">
              <a:t>11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Vnímání nabídky v oblasti kultu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4A8E-8D0F-4C03-BE93-DA305FF61084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95280" y="457200"/>
            <a:ext cx="1151424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Nabídka kultury v Praze je pestrá. </a:t>
            </a:r>
            <a:br>
              <a:rPr sz="3600"/>
            </a:br>
            <a:r>
              <a:rPr b="1" lang="cs-CZ" sz="3200" spc="-1" strike="noStrike">
                <a:solidFill>
                  <a:srgbClr val="990033"/>
                </a:solidFill>
                <a:latin typeface="Arial"/>
              </a:rPr>
              <a:t>Významný nedostatek z hlediska rozmanitosti neexistu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13000" y="26146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2330280"/>
            <a:ext cx="64008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slíte si, že je nabídka kulturních pořadů a akcí v  Praze dostatečně rozmanitá?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762120" y="3276720"/>
          <a:ext cx="5873760" cy="487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27672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6629400" y="3200400"/>
          <a:ext cx="5873760" cy="4873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629400" y="320040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6705720" y="1905120"/>
            <a:ext cx="586728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yní mi laskavě řekněte, zda je ještě něco jiného, co Vy osobně v nabídce kulturních akcí, pořadů či v oblasti kultury a umění v Praze postrádáte?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E201-0BE5-4BA1-B6D6-CBA637D8D84E}" type="slidenum">
              <a:t>13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92040" y="380880"/>
            <a:ext cx="116694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Jak hodnotí Pražané rozsah nabídky v kultuře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603600" y="2652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603600" y="2581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98920" y="3096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603600" y="28335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23623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057400" y="28195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98920" y="85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3200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03600" y="334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03600" y="334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598920" y="204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603600" y="8809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2286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6019920"/>
            <a:ext cx="6477120" cy="213336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abídka a poptávka v rovnová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lmová představení v klubových kin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mediální projek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neční a baletní představ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bídka odborných kniho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324480" y="838080"/>
            <a:ext cx="571500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99ff"/>
                </a:solidFill>
                <a:latin typeface="Symbol"/>
                <a:ea typeface="Symbol"/>
              </a:rPr>
              <a:t></a:t>
            </a:r>
            <a:r>
              <a:rPr b="1" lang="en-US" sz="4800" spc="-1" strike="noStrike">
                <a:solidFill>
                  <a:srgbClr val="6699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6699ff"/>
                </a:solidFill>
                <a:latin typeface="Arial"/>
              </a:rPr>
              <a:t>Hodnotí 60 - 70 % obyva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2057400"/>
            <a:ext cx="6477120" cy="3657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optávka spíše vyšší než nabíd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adelní představení pro dě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iné kulturně vzdělávací pořady pro dět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moderní alternativ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ředstavení alternativních divadelních scén  a klub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ce amatérských umělc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ce prezentující lidovou kultu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terární pořady, autorská čtení, pás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315200" y="2666880"/>
            <a:ext cx="5257800" cy="2819520"/>
          </a:xfrm>
          <a:prstGeom prst="rect">
            <a:avLst/>
          </a:pr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abídka a poptávka v rovnová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ředstavení klasických diva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zeální expoz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populár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lerijní či jiné výstavy umě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315200" y="5791320"/>
            <a:ext cx="5257800" cy="21333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abídka spíše vyšší než poptáv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lmová představení v multikinech, kin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ziká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populár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374960" y="1295280"/>
            <a:ext cx="540936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Hodnotí 85 - 95 % obyvatel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009999"/>
                </a:solidFill>
                <a:latin typeface="Symbol"/>
                <a:ea typeface="Symbol"/>
              </a:rPr>
              <a:t>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0A32-5274-4988-A821-5147F2B2793A}" type="slidenum">
              <a:t>14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125046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Příklady posuzování rozsahu nabídky </a:t>
            </a:r>
            <a:br>
              <a:rPr sz="3600"/>
            </a:b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kulturních pořadů v hlavním městě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213000" y="26146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62120" y="1905120"/>
            <a:ext cx="114300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du Vám nyní číst nabídku jednotlivých druhů kulturních pořadů, akcí a zaříze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y mi, prosím, řekněte, zda máte poci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e některých je málo,  je jich přiměřeně a nebo je jich až moc.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809640" y="3111480"/>
          <a:ext cx="11255400" cy="4794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9640" y="3111480"/>
                    <a:ext cx="11255400" cy="47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BCE0-CE47-4BC5-8D76-E221FC864B8D}" type="slidenum">
              <a:t>15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Kulturní zájmy a návštěvno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C559-C374-4F64-8815-BEE3188EA235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1189512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Hierarchie zájmu o kulturní oblasti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13160" y="2619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676520" y="2590920"/>
          <a:ext cx="10210680" cy="5659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2590920"/>
                    <a:ext cx="10210680" cy="56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990720" y="1752480"/>
            <a:ext cx="11430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Řekněte mi, prosím, jaký je Váš vztah k jednotlivým oblastem v kultuř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moc se o jednotlivé kulturní akce v těchto oblastech zajímáte?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9CD2-7D42-4B7A-9E9F-5A18A0498DFD}" type="slidenum">
              <a:t>17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3880" y="347400"/>
            <a:ext cx="1114920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Zájem generací o jednotlivé druhy umění je různ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03320" y="17622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570120" y="24382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2286000" y="2438280"/>
          <a:ext cx="8991720" cy="5813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0" y="2438280"/>
                    <a:ext cx="8991720" cy="581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990720" y="1752480"/>
            <a:ext cx="11430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ájem o jednotlivé kulturní oblasti podle vě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čet odpovědí „Velmi se zajímám“ + „Poměrně se zajímám“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610B-8206-404E-9391-98613A116EC8}" type="slidenum">
              <a:t>18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92040" y="380880"/>
            <a:ext cx="116694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Jak často vyrazí Pražané za kulturou?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603600" y="2652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603600" y="2581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598920" y="3096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03600" y="28335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86200" y="23623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057400" y="28195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598920" y="85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105520" y="3200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603600" y="334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603600" y="334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598920" y="204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603600" y="8809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057400" y="2286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95280" y="3200400"/>
            <a:ext cx="11049120" cy="205740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zikálová představ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populár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lubová kina, filmové klu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rní alternativní divadelní scény, klu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klasické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95280" y="5410080"/>
            <a:ext cx="11049120" cy="28195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dborné knihov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moderní alternativ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ce amatérských umělc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ce prezentující lidovou kultu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terární kluby, pásma, več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adelní a jiné kulturně vzdělávací programy pro dě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mediální projekty, taneční a baletní představ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064280" y="3276720"/>
            <a:ext cx="74160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295280" y="1371600"/>
            <a:ext cx="11049120" cy="167652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kina, k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řejné knihovny, muz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lasická divadelní představ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lerie či výstavy výtvarného umě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850520" y="1701720"/>
            <a:ext cx="449352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íce než polov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imálně  jednou za r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064280" y="5940360"/>
            <a:ext cx="91080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010280" y="1447920"/>
            <a:ext cx="106704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230680" y="6257880"/>
            <a:ext cx="342828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íce než polovin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ůbec nik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850520" y="3683160"/>
            <a:ext cx="449352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5 – 45 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imálně  jednou za r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1842-499D-471B-9950-37E870EA6CFE}" type="slidenum">
              <a:t>19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Základní informace o výzkumu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6154-009C-4C8F-BE3C-50066D3E9832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1174248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Příklady návštěvnosti kulturních pořadů a zařízení </a:t>
            </a:r>
            <a:br>
              <a:rPr sz="3600"/>
            </a:b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mezi obyvateli Prahy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213000" y="26146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62120" y="2041560"/>
            <a:ext cx="11430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myslete se, prosím, nad letošním rokem a řekněte mi, jak často obvyk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dnotlivé kulturní akce či zařízení navštěvujete.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809640" y="3111480"/>
          <a:ext cx="11255400" cy="457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9640" y="3111480"/>
                    <a:ext cx="112554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7AE7-D480-4D9C-9B99-65B9B2D407DF}" type="slidenum">
              <a:t>20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Bariéry účasti na kulturním život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BD2E-930D-47AD-8BF0-799E1C1490EE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1152972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Ne každý může za kulturou, jak by chtěl. 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Lidé tvrdí, že „chybí“ volný čas nebo peníze.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793880" y="2128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38080" y="7696080"/>
            <a:ext cx="11049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6492960" y="3098880"/>
          <a:ext cx="6143400" cy="444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92960" y="3098880"/>
                    <a:ext cx="6143400" cy="44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6324480" y="1981080"/>
            <a:ext cx="655344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ud u Vás převládá pocit, že nemůžete navštěvovat různé kulturní akce a zařízení tak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byste chtěl(a), co je podle Vá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bvykle hlavním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ůvodem?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380880" y="3014640"/>
            <a:ext cx="5639040" cy="467856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228600" y="2057400"/>
            <a:ext cx="609588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dyž to vezmeme všechno dohromady, můžete se návštěvám různých kulturních akcí a zařízení věnovat tak, jak byste chtěl(a):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E18D-4D83-4E75-A0F6-6C8E03FB01C9}" type="slidenum">
              <a:t>22</a:t>
            </a:fld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23880" y="347400"/>
            <a:ext cx="1114920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Drahá připadají lidem kina, divadla, koncerty.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Pro většinu lidí není problém místo konání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903320" y="17622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284640" y="2381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1682640" y="3048120"/>
          <a:ext cx="10302840" cy="517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82640" y="3048120"/>
                    <a:ext cx="10302840" cy="51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" name=""/>
          <p:cNvSpPr/>
          <p:nvPr/>
        </p:nvSpPr>
        <p:spPr>
          <a:xfrm>
            <a:off x="533520" y="1905120"/>
            <a:ext cx="1219176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hodnotíte dosažitelnost a cenovou přijatelnost následujících kulturních zařízení v Praze? Pokud jde o jejich dosažitelnost z místa, kde bydlí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ud jde o jejich cenovou přijatelnost.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81C4-97D0-4E18-AA81-738A3253AFA1}" type="slidenum">
              <a:t>23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523880" y="347400"/>
            <a:ext cx="1114920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Nejstarší generace má problémy: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dostupné jsou pro většinu z nich jen knihovn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903320" y="17622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284640" y="2381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371600" y="1828800"/>
            <a:ext cx="112014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hodnotíte dosažitelnost a cenovou přijatelnost následujících kulturních zařízení v Praze? Pokud jde o jejich cenovou přijatelnost.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oučet odpovědí „Zcela přijatelné + „Spíše přijatelné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456000" y="2262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1984320" y="2971800"/>
          <a:ext cx="9445680" cy="541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4320" y="2971800"/>
                    <a:ext cx="9445680" cy="54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8231-EEE0-4ADE-AF91-08F719ACBEC5}" type="slidenum">
              <a:t>24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973080" y="320040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ctr">
            <a:noAutofit/>
          </a:bodyPr>
          <a:p>
            <a:pPr algn="ctr"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Shrnutí a závě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D0AB-3F65-4B40-A32A-36826FAD9928}" type="slidenum">
              <a:t>25</a:t>
            </a:fld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aha jako kulturní centru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066680" y="3429000"/>
            <a:ext cx="11277720" cy="175248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137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Pražané řadí Prahu mezi nejvýznamnější evropská kulturní centra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066680" y="5943600"/>
            <a:ext cx="11277720" cy="175248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137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Obyvatelé města oceňují možnosti v oblasti kultury jako jednu z největší předností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3CEC-2976-4098-86FD-755505CBBCEA}" type="slidenum">
              <a:t>26</a:t>
            </a:fld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aha jako kulturní centru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066680" y="3429000"/>
            <a:ext cx="11277720" cy="167652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137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Informace o kulturní nabídce v Praze nescházejí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066680" y="5943600"/>
            <a:ext cx="11277720" cy="167652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137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Kulturní život v hlavním městě nemá zásadní omezení na straně nabídky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9126-46A2-4E19-8616-1664EAEB320F}" type="slidenum">
              <a:t>27</a:t>
            </a:fld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ojekce kulturní „spotřeby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066680" y="3352680"/>
            <a:ext cx="11277720" cy="182880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24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15000"/>
              </a:lnSpc>
              <a:spcBef>
                <a:spcPts val="1851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ezi Pra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any 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nedojde v horizontu 15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 let 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v oblasti kulturních zájmů a potřeb k významným změnám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066680" y="5867280"/>
            <a:ext cx="11277720" cy="182880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24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15000"/>
              </a:lnSpc>
              <a:spcBef>
                <a:spcPts val="1738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ojde k p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ek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í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ení vlivu demografického stárnutí a zlepšující se úrovn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 celkové vzd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lanosti Pra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an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BCCA-F513-4D5C-B34C-A8A67FDA7E76}" type="slidenum">
              <a:t>28</a:t>
            </a:fld>
          </a:p>
        </p:txBody>
      </p:sp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ojekce kulturní „spotřeby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143000" y="3276720"/>
            <a:ext cx="11125080" cy="190476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24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15000"/>
              </a:lnSpc>
              <a:spcBef>
                <a:spcPts val="1962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Mírné ne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Times New Roman"/>
              </a:rPr>
              <a:t>dostatk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y ve struktuře nabídky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Times New Roman"/>
              </a:rPr>
              <a:t> se sice výrazn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Times New Roman"/>
              </a:rPr>
              <a:t> neprohloubí, avšak ani neustoupí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143000" y="5791320"/>
            <a:ext cx="11125080" cy="190476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1851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Rozvírání nůžek mezi lidmi s větším a menším zájmem o kulturu může způsobit nepříznivý ekonomický vývoj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15000"/>
              </a:lnSpc>
              <a:spcBef>
                <a:spcPts val="1851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0981-F9B6-42BB-90EF-105A998CDBD2}" type="slidenum">
              <a:t>29</a:t>
            </a:fld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66800"/>
            <a:ext cx="11950560" cy="710712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marL="1143000" indent="0">
              <a:spcAft>
                <a:spcPts val="1400"/>
              </a:spcAft>
              <a:buNone/>
              <a:tabLst>
                <a:tab algn="l" pos="0"/>
                <a:tab algn="l" pos="1339920"/>
                <a:tab algn="l" pos="2679840"/>
                <a:tab algn="l" pos="4019400"/>
                <a:tab algn="l" pos="5359320"/>
                <a:tab algn="l" pos="6699240"/>
                <a:tab algn="l" pos="8039160"/>
                <a:tab algn="l" pos="9379080"/>
                <a:tab algn="l" pos="1071864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yp výzkumu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vantitativní  reprezentativních še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ní</a:t>
            </a: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ílová skupina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byvatelé Prahy starší 15 let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etoda výzkumu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vótní výb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 podle kritérií pohlaví,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u, vzd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ání a 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ských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ástí</a:t>
            </a:r>
            <a:br>
              <a:rPr sz="2800"/>
            </a:br>
            <a:r>
              <a:rPr b="1" lang="cs-CZ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echnika dotazování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andardizované osobní rozhovory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ovedené školenými tazateli STEM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ermín výzkumu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2.11. – 2.12. 2004</a:t>
            </a:r>
            <a:br>
              <a:rPr sz="2800"/>
            </a:br>
            <a:r>
              <a:rPr b="1" lang="cs-CZ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ýsledný soubor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850 responden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317A-518F-46A6-A3BF-20797E903ABE}" type="slidenum">
              <a:t>3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0033"/>
            </a:gs>
            <a:gs pos="50000">
              <a:srgbClr val="8c043b"/>
            </a:gs>
            <a:gs pos="100000">
              <a:srgbClr val="66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47560" y="5638680"/>
            <a:ext cx="10591560" cy="2438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f8f0cc"/>
                </a:solidFill>
                <a:latin typeface="Arial"/>
              </a:rPr>
              <a:t>Přejeme mnoho úspěchů </a:t>
            </a:r>
            <a:br>
              <a:rPr sz="4800"/>
            </a:br>
            <a:r>
              <a:rPr b="1" lang="en-US" sz="4800" spc="-1" strike="noStrike">
                <a:solidFill>
                  <a:srgbClr val="f8f0cc"/>
                </a:solidFill>
                <a:latin typeface="Arial"/>
              </a:rPr>
              <a:t>a děkujeme za pozorno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STEM" descr=""/>
          <p:cNvPicPr/>
          <p:nvPr/>
        </p:nvPicPr>
        <p:blipFill>
          <a:blip r:embed="rId1"/>
          <a:stretch/>
        </p:blipFill>
        <p:spPr>
          <a:xfrm>
            <a:off x="4572000" y="762120"/>
            <a:ext cx="3597120" cy="3962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FC36-D413-49BD-9AAF-56D7A9EBAF05}" type="slidenum">
              <a:t>30</a:t>
            </a:fld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ažané a kultur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638360" y="2666880"/>
            <a:ext cx="10553760" cy="510552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txBody>
          <a:bodyPr lIns="123480" rIns="123480" tIns="61560" bIns="61560" anchor="t">
            <a:normAutofit/>
          </a:bodyPr>
          <a:p>
            <a:pPr marL="743040" indent="-74304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ké je místo kultury v životě Pražanů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sou Pražané v oblasti kultury informovaní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e nabídka kultury dostatečně rozmanit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 Pražany v kultuře zajímá a kam chodí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mění se v nejbližších letech potřeby veřejnosti   v oblasti kultu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0224-D227-4DBE-A144-49072D55F803}" type="slidenum">
              <a:t>4</a:t>
            </a:fld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Místo kultury v životě Pražan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1032-40D9-41C2-ADDC-DA3D96789926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114411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Kultura není v životním stylu Pražanů prioritou.</a:t>
            </a: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13160" y="2619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1752480"/>
            <a:ext cx="11430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hlédněte si, prosím, seznam životních stylů a vyberte postupně tř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teré jsou Vám nejbližší. Stanovte pořadí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79840" y="23144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362320" y="2438280"/>
          <a:ext cx="8610480" cy="595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2438280"/>
                    <a:ext cx="8610480" cy="595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6A6F-D7E1-4337-9CB6-1B89E38F3454}" type="slidenum">
              <a:t>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1152972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Těsnější vazbu ke kultuře 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má jen poměrně malý podíl Pražanů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93880" y="2128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7696080"/>
            <a:ext cx="11049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905120"/>
            <a:ext cx="601992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dyž se srovnáte s jinými lidmi Vašeho věku, jak často ve srovnání s nimi navštěvujete různé kulturní akce a zařízení?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22600" y="278136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79840" y="2619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33520" y="3200400"/>
          <a:ext cx="5029200" cy="432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3200400"/>
                    <a:ext cx="502920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380880" y="2209680"/>
            <a:ext cx="54104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lupodílel(a) jste se v posledním roce na nějaké kulturní akci, projektu:“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400800" y="3124080"/>
          <a:ext cx="5873760" cy="4873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400800" y="312408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ED26-E2FF-4CF9-9EE4-E77AB86319C6}" type="slidenum">
              <a:t>7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Informovanost o kultuř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D07F-D458-46B5-B848-69942C44416D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00200" y="457200"/>
            <a:ext cx="1104912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Informací o kulturní nabídce je dost.</a:t>
            </a:r>
            <a:br>
              <a:rPr sz="3600"/>
            </a:b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V</a:t>
            </a:r>
            <a:r>
              <a:rPr b="1" lang="cs-CZ" sz="3200" spc="-1" strike="noStrike">
                <a:solidFill>
                  <a:srgbClr val="990033"/>
                </a:solidFill>
                <a:latin typeface="Arial"/>
              </a:rPr>
              <a:t>ětšina Pražanů si myslí, že má dostatečný přeh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13000" y="26146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224080"/>
            <a:ext cx="64008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 podle Vás snadné získat dostatek informací o kulturní nabídce v hlavním městě?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05720" y="2254320"/>
            <a:ext cx="586728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slíte si, že máte dostatečný přehl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nabídce kultury v Praze?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62120" y="3276720"/>
          <a:ext cx="5873760" cy="487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27672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6629400" y="3200400"/>
          <a:ext cx="5873760" cy="4873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629400" y="320040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B5A6-D742-423E-AC4C-AFE9374B7941}" type="slidenum">
              <a:t>9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4T08:22:19Z</dcterms:created>
  <dc:creator>Sýkorová</dc:creator>
  <dc:description/>
  <dc:language>en-US</dc:language>
  <cp:lastModifiedBy>sykorova</cp:lastModifiedBy>
  <dcterms:modified xsi:type="dcterms:W3CDTF">2005-01-12T16:55:05Z</dcterms:modified>
  <cp:revision>360</cp:revision>
  <dc:subject/>
  <dc:title>Hlavní město Praha - portrét roku 2004</dc:title>
</cp:coreProperties>
</file>