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15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963525" cy="8640763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8E81-558C-42D6-BDC4-F1A58B47A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5634-F9CA-4E04-B1C3-1F239AF3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F77D-966B-4AC3-AB49-694866D04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18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374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62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918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5374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7ADA-9589-4191-BDDC-324177B85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5CF7-6510-4048-ABC8-7DEDAC03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6366-A3F8-43F2-A246-47F1C2BC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DD35-A57C-4F24-BCB3-D84F96C9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50E1-0A75-4093-BB14-731AB08F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46200" y="347400"/>
            <a:ext cx="11669760" cy="66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E110-18B5-4DC4-96E9-FAB6D0FB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A6F1-58B6-4C66-BBCB-719906B7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0E35-7840-4DC3-AA34-9CE97F8A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0699-CBAB-4D3E-BACE-5F8BEDA7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marL="461880" indent="-46188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1003320" indent="-38592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0636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2160720" indent="-30960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584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27640" y="0"/>
            <a:ext cx="4106880" cy="5983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1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8980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fld id="{30A120AD-B09C-4835-B4D8-E2EBBA0F859D}" type="slidenum">
              <a:rPr b="0" lang="cs-C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107928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e2e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838080"/>
            <a:ext cx="11034720" cy="2438640"/>
          </a:xfrm>
          <a:prstGeom prst="rect">
            <a:avLst/>
          </a:prstGeom>
          <a:solidFill>
            <a:srgbClr val="6d1543"/>
          </a:solidFill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7200" spc="-1" strike="noStrike">
                <a:solidFill>
                  <a:srgbClr val="fbfadd"/>
                </a:solidFill>
                <a:latin typeface="Arial"/>
              </a:rPr>
              <a:t>Kulturní zájmy a potřeby</a:t>
            </a:r>
            <a:br>
              <a:rPr sz="7200"/>
            </a:br>
            <a:r>
              <a:rPr b="1" lang="en-US" sz="4000" spc="-1" strike="noStrike">
                <a:solidFill>
                  <a:srgbClr val="fbfadd"/>
                </a:solidFill>
                <a:latin typeface="Arial"/>
              </a:rPr>
              <a:t>obyvatel hlavního města Pra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99840" y="7162560"/>
            <a:ext cx="9753480" cy="1066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Prezentace pro setkání představitelů pražské kulturní obce dne 14. 1.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STEM" descr=""/>
          <p:cNvPicPr/>
          <p:nvPr/>
        </p:nvPicPr>
        <p:blipFill>
          <a:blip r:embed="rId1"/>
          <a:stretch/>
        </p:blipFill>
        <p:spPr>
          <a:xfrm>
            <a:off x="4800600" y="3657600"/>
            <a:ext cx="3124080" cy="328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87BD-28C3-4EA9-B55D-B432FBBC47CE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111492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Reference od známých jsou základ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Internetu patří nejenom budoucnost, ale i současn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1600200"/>
            <a:ext cx="112014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odkud čerpáte informace o možnostech kulturního vyžití v Praz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5440" y="2328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85920" y="2016000"/>
          <a:ext cx="9937800" cy="642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5920" y="2016000"/>
                    <a:ext cx="9937800" cy="642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5E80-21EA-4473-A64C-8C0BD7465F19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11201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ěkteré z pražských kulturních projektů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se staly pojmy, které zná větš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1600200"/>
            <a:ext cx="11887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Vám budu postupně číst různé konkrétní akce či 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 prosím řekněte, zda je znát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2120" y="2797200"/>
          <a:ext cx="6407280" cy="561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120" y="2797200"/>
                    <a:ext cx="640728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518160" y="2684520"/>
          <a:ext cx="6283440" cy="545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18160" y="2684520"/>
                    <a:ext cx="628344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2CE3-257D-4ED9-9902-74CD6C095B3F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Vnímání nabídky v oblasti kultu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E2B6-3C28-4C87-8C71-376B0D1211A2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1151424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abídka kultury v Praze je pestrá. </a:t>
            </a:r>
            <a:br>
              <a:rPr sz="3600"/>
            </a:b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Významný nedostatek z hlediska rozmanitosti neexist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23302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je nabídka kulturních pořadů a akcí v  Praze dostatečně rozmanitá?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705720" y="1905120"/>
            <a:ext cx="5867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mi laskavě řekněte, zda je ještě něco jiného, co Vy osobně v nabídce kulturních akcí, pořadů či v oblasti kultury a umění v Praze postrád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3DBD-D182-4696-BF8C-7C03FCB331F0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hodnotí Pražané rozsah nabídky v kultuř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6019920"/>
            <a:ext cx="6477120" cy="213336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klubových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bídka odborných kniho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838080"/>
            <a:ext cx="57150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ff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6699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Hodnotí 60 - 70 % obyv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2057400"/>
            <a:ext cx="6477120" cy="3657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optávka spíše vyšší než nabíd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představení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iné kulturně vzdělávací pořady pro dě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alternativních divadelních scén  a klub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pořady, autorská čtení, pá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5257800" cy="28195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klasických diva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eální expoz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jní či jiné výstavy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5791320"/>
            <a:ext cx="5257800" cy="2133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spíše vyšší než poptáv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multikinech,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74960" y="1295280"/>
            <a:ext cx="54093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Hodnotí 85 - 95 % obyvatel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9999"/>
                </a:solidFill>
                <a:latin typeface="Symbol"/>
                <a:ea typeface="Symbol"/>
              </a:rPr>
              <a:t>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52E4-6648-4F65-A9EF-063AD8D0DD8F}" type="slidenum">
              <a:t>14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125046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posuzování rozsahu nabídky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kulturních pořadů v hlavním městě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1905120"/>
            <a:ext cx="114300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u Vám nyní číst nabídku jednotlivých druhů kulturních pořadů, akcí a 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, prosím, řekněte, zda máte poci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e některých je málo,  je jich přiměřeně a nebo je jich až moc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809640" y="3111480"/>
          <a:ext cx="11255400" cy="479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7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70E9-F829-4B3B-B055-5B2845EEF574}" type="slidenum">
              <a:t>15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Kulturní zájmy a návštěv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9BFC-BD5C-4A57-A8B1-60FBE17454BC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189512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Hierarchie zájmu o kulturní oblast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676520" y="2590920"/>
          <a:ext cx="10210680" cy="565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590920"/>
                    <a:ext cx="10210680" cy="56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prosím, jaký je Váš vztah k jednotlivým oblastem v kultuř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moc se o jednotlivé kulturní akce v těchto oblastech zajím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287D-B56D-49AE-9B16-CBF2233FD519}" type="slidenum">
              <a:t>17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Zájem generací o jednotlivé druhy umění je různ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70120" y="24382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286000" y="2438280"/>
          <a:ext cx="8991720" cy="581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2438280"/>
                    <a:ext cx="8991720" cy="58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jem o jednotlivé kulturní oblasti podle vě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čet odpovědí „Velmi se zajímám“ + „Poměrně se zajímám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0E6A-CA54-4E0B-98DD-D8475C89C0A8}" type="slidenum">
              <a:t>18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často vyrazí Pražané za kulturou?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3200400"/>
            <a:ext cx="11049120" cy="20574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ová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ubová kina, filmové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rní alternativní divadelní scény,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klasické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5410080"/>
            <a:ext cx="11049120" cy="2819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borné knihov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kluby, pásma, več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a jiné kulturně vzdělávací programy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, 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64280" y="3276720"/>
            <a:ext cx="7416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1371600"/>
            <a:ext cx="11049120" cy="16765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kina, k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řejné knihovny, muz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asická divadel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e či výstavy výtvarného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850520" y="170172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64280" y="5940360"/>
            <a:ext cx="9108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10280" y="1447920"/>
            <a:ext cx="106704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30680" y="6257880"/>
            <a:ext cx="34282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ůbec nik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850520" y="368316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5 – 45 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D6B2-BCCD-40EE-A25A-BD47E41DEAF3}" type="slidenum">
              <a:t>19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Základní informace o výzkumu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72A5-0849-4350-BE8E-B1FD5C135CE9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1174248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návštěvnosti kulturních pořadů a zařízení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mezi obyvateli Prahy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204156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myslete se, prosím, nad letošním rokem a řekněte mi, jak často obvy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tlivé kulturní akce či zařízení navštěvujete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809640" y="3111480"/>
          <a:ext cx="1125540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1070-A9A3-4189-8AD2-F84B14BF932F}" type="slidenum">
              <a:t>20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Bariéry účasti na kulturním život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2749-5981-4479-801F-863B0E204097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 každý může za kulturou, jak by chtěl.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Lidé tvrdí, že „chybí“ volný čas nebo peníze.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492960" y="3098880"/>
          <a:ext cx="6143400" cy="444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92960" y="3098880"/>
                    <a:ext cx="614340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6324480" y="1981080"/>
            <a:ext cx="655344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u Vás převládá pocit, že nemůžete navštěvovat různé kulturní akce a zařízení ta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byste chtěl(a), co je podle Vá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bvykle hlavní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ůvodem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380880" y="3014640"/>
            <a:ext cx="5639040" cy="46785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228600" y="2057400"/>
            <a:ext cx="60958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to vezmeme všechno dohromady, můžete se návštěvám různých kulturních akcí a zařízení věnovat tak, jak byste chtěl(a):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81C7-BF88-4BDF-8A90-56C338C03748}" type="slidenum">
              <a:t>22</a:t>
            </a:fld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rahá připadají lidem kina, divadla, koncerty.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Pro většinu lidí není problém místo konání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682640" y="3048120"/>
          <a:ext cx="10302840" cy="517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82640" y="3048120"/>
                    <a:ext cx="10302840" cy="51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533520" y="1905120"/>
            <a:ext cx="121917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dosažitelnost z místa, kde bydlí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37C2-C525-428C-8068-A1A331E50CDC}" type="slidenum">
              <a:t>23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jstarší generace má problémy: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ostupné jsou pro většinu z nich jen knihov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1828800"/>
            <a:ext cx="112014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oučet odpovědí „Zcela přijatelné + „Spíše přijatelné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56000" y="2262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984320" y="2971800"/>
          <a:ext cx="9445680" cy="541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4320" y="2971800"/>
                    <a:ext cx="9445680" cy="54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256E-255C-4C1F-AEFE-65AA2650D73D}" type="slidenum">
              <a:t>24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73080" y="320040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ctr">
            <a:noAutofit/>
          </a:bodyPr>
          <a:p>
            <a:pPr algn="ctr"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Shrnutí a závě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CA61-6435-491C-ADC9-BD98D273E8B3}" type="slidenum">
              <a:t>25</a:t>
            </a:fld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66680" y="34290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ražané řadí Prahu mezi nejvýznamnější evropská kulturní centra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66680" y="59436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byvatelé města oceňují možnosti v oblasti kultury jako jednu z největší předností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5D3B-40E4-49EA-9822-2F475DC0463D}" type="slidenum">
              <a:t>26</a:t>
            </a:fld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34290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formace o kulturní nabídce v Praze nescházejí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59436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Kulturní život v hlavním městě nemá zásadní omezení na straně nabídky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5DB5-8BEE-486C-8204-6DDCAE494DD4}" type="slidenum">
              <a:t>27</a:t>
            </a:fld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66680" y="33526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z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y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edojde v horizontu 15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let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 oblasti kulturních zájmů a potřeb k významným změnám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66680" y="58672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738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ojde k p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k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ní vlivu demografického stárnutí a zlepšující se úrov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celkové vz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lanost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B416-7178-4467-8072-F3AD93A6F2C0}" type="slidenum">
              <a:t>28</a:t>
            </a:fld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43000" y="32767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962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Mírné ne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dostatk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y ve struktuře nabídky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se sice výrazn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neprohloubí, avšak ani neustoupí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43000" y="57913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Rozvírání nůžek mezi lidmi s větším a menším zájmem o kulturu může způsobit nepříznivý ekonomický vývoj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29FC-82A4-4173-B3F3-C15E5BFD7BF8}" type="slidenum">
              <a:t>29</a:t>
            </a:fld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6800"/>
            <a:ext cx="11950560" cy="71071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marL="1143000" indent="0">
              <a:spcAft>
                <a:spcPts val="1400"/>
              </a:spcAft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yp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antitativní  reprezentativních še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í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ílová skupina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byvatelé Prahy starší 15 let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toda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ótní vý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 podle kritérií pohlaví,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u, vz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ání a 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ských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ástí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ka dotazování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andardizované osobní rozhovory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vedené školenými tazateli STEM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rmín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2.11. – 2.12. 2004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ýsledný soubor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850 responden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92BB-8CAE-45DF-9AF7-A5FADE813CC5}" type="slidenum">
              <a:t>3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50000">
              <a:srgbClr val="8c043b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7560" y="5638680"/>
            <a:ext cx="10591560" cy="2438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Přejeme mnoho úspěchů </a:t>
            </a:r>
            <a:br>
              <a:rPr sz="4800"/>
            </a:b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a děkujeme za pozor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STEM" descr=""/>
          <p:cNvPicPr/>
          <p:nvPr/>
        </p:nvPicPr>
        <p:blipFill>
          <a:blip r:embed="rId1"/>
          <a:stretch/>
        </p:blipFill>
        <p:spPr>
          <a:xfrm>
            <a:off x="4572000" y="762120"/>
            <a:ext cx="3597120" cy="39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6752-E037-4768-97A4-889066BADA9A}" type="slidenum">
              <a:t>30</a:t>
            </a:fld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žané a kultu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38360" y="2666880"/>
            <a:ext cx="10553760" cy="5105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txBody>
          <a:bodyPr lIns="123480" rIns="123480" tIns="61560" bIns="61560" anchor="t">
            <a:normAutofit/>
          </a:bodyPr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ké je místo kultury v životě Pražanů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sou Pražané v oblasti kultury informovan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 nabídka kultury dostatečně rozmanit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 Pražany v kultuře zajímá a kam chod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mění se v nejbližších letech potřeby veřejnosti   v oblasti kultu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26F7-E420-4CB2-AECD-CF3400294FF9}" type="slidenum">
              <a:t>4</a:t>
            </a:fld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Místo kultury v životě Pražan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B6D1-777A-44AE-9DDF-9D74E7303D14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114411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Kultura není v životním stylu Pražanů prioritou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hlédněte si, prosím, seznam životních stylů a vyberte postupně tř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eré jsou Vám nejbližší. Stanovte pořadí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79840" y="23144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362320" y="2438280"/>
          <a:ext cx="8610480" cy="595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2438280"/>
                    <a:ext cx="8610480" cy="59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9E88-6C7B-4185-874C-997B8ACE967C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Těsnější vazbu ke kultuře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má jen poměrně malý podíl Pražan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905120"/>
            <a:ext cx="60199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se srovnáte s jinými lidmi Vašeho věku, jak často ve srovnání s nimi navštěvujete různé kulturní akce a zařízení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2600" y="278136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7984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3200400"/>
          <a:ext cx="5029200" cy="432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200400"/>
                    <a:ext cx="50292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80880" y="2209680"/>
            <a:ext cx="5410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lupodílel(a) jste se v posledním roce na nějaké kulturní akci, projektu: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400800" y="312408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00800" y="312408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40E6-CDF6-4D91-85E1-764C5C36C6F4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Informovanost o kultuř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D3E1-E090-403F-AC71-14E08C4F9027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110491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Informací o kulturní nabídce je dost.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ětšina Pražanů si myslí, že má dostatečný přeh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2240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podle Vás snadné získat dostatek informací o kulturní nabídce v hlavním městě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2254320"/>
            <a:ext cx="58672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máte dostatečný přeh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nabídce kultury v Praz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9248-4D9A-4D46-A984-03FBBD6220B4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08:22:19Z</dcterms:created>
  <dc:creator>Sýkorová</dc:creator>
  <dc:description/>
  <dc:language>en-US</dc:language>
  <cp:lastModifiedBy>sykorova</cp:lastModifiedBy>
  <dcterms:modified xsi:type="dcterms:W3CDTF">2005-01-12T16:55:05Z</dcterms:modified>
  <cp:revision>360</cp:revision>
  <dc:subject/>
  <dc:title>Hlavní město Praha - portrét roku 2004</dc:title>
</cp:coreProperties>
</file>